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2A8-BD70-41FE-BFE3-777F3343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7BD7-FE1D-4670-B522-381A48AF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489-8ABB-4AA0-A206-5DAF921B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264-9092-4781-B678-2B0F4E6F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F46A-BC9F-41AC-8ECC-9BCD7D1C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D33-51D1-4AA2-A849-65DF684F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709-9531-4AE1-9377-65D22739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4E49-368B-45C4-BB05-525609D0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6C2-F301-451B-9FD5-C69E4E50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474A-60AF-4724-B08E-0CD91BCE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684-CB0B-4D02-ADE7-3ACD26EA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413-35A9-446D-9E23-BFD89025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79c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79c8"/>
                </a:solidFill>
                <a:latin typeface="Arial"/>
              </a:rPr>
              <a:t>4-</a:t>
            </a:r>
            <a:fld id="{8961310B-B755-4148-994E-2448E80B8AAE}" type="slidenum">
              <a:rPr b="0" lang="en-US" sz="1400" spc="-1" strike="noStrike">
                <a:solidFill>
                  <a:srgbClr val="0479c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127080">
            <a:solidFill>
              <a:srgbClr val="a63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79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ike.com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abiscoworld.com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514600"/>
            <a:ext cx="40384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Motivation and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3467160" cy="4600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assifying Consumer Need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5486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urray’s 20 psychogenic need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atic Apperception Technique (T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pecific needs and buying behaviour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aff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uniqu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5880" y="1523880"/>
            <a:ext cx="251784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CBDE-C3DD-4E5A-848B-BA3C41C4A0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79c8"/>
                </a:solidFill>
                <a:latin typeface="Arial"/>
              </a:rPr>
              <a:t>Levels of Needs in the Maslow Hierarchy</a:t>
            </a:r>
            <a:endParaRPr b="0" lang="en-US" sz="3800" spc="-1" strike="noStrike">
              <a:solidFill>
                <a:srgbClr val="0479c8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58280" cy="433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419-24CE-4DAE-B9EC-B91F6BC373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Devise separate promotional strategies for an article of clothing, each of which stresses one of the levels of Maslow’s hierarchy of needs.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016-FED0-43E7-BF66-4DAE31866C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nsumer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3581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3055"/>
                </a:solidFill>
                <a:latin typeface="Arial"/>
              </a:rPr>
              <a:t>We can get pretty attached to products…</a:t>
            </a:r>
            <a:endParaRPr b="0" lang="en-US" sz="20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n One” tattoo on consumer’s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uc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gazine for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3055"/>
                </a:solidFill>
                <a:latin typeface="Arial"/>
              </a:rPr>
              <a:t>Involvement: perceived relevance of an object based on one’s needs, values, and interests</a:t>
            </a:r>
            <a:endParaRPr b="0" lang="en-US" sz="20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vation to process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038480" y="1676520"/>
            <a:ext cx="4419720" cy="39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3BF6-758E-46EE-BF73-6DE1176643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nertia and Flow Stat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ertia: consumption at the low end of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ake decisions out of habit (lack of motiv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low state: true involvement with a produc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fu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i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ntration/focused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5C08-8952-4FC2-981E-D222DEA150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nertia and Flow State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low state (cont’d)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al enjoyment of activity for its own s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orted sense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between challenge at hand and one’s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3055-A9B3-4092-82D7-F3DBB4C0FD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ult Produc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mmand fierce consumer loyalty, devotion, and worship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involvement in a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Apple computers, Harley-David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943-5FDD-49C6-A4F7-34F508DE3F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ype of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153280" cy="28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92C-52BF-481E-B002-E43E7457E3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roduct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’s level of interest in a produc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ny sales promotions attempt to increase product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ss customization enhances product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981080" y="4572000"/>
            <a:ext cx="4723560" cy="825480"/>
            <a:chOff x="1981080" y="4572000"/>
            <a:chExt cx="4723560" cy="825480"/>
          </a:xfrm>
        </p:grpSpPr>
        <p:pic>
          <p:nvPicPr>
            <p:cNvPr id="8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981080" y="4572000"/>
              <a:ext cx="95256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86" name=""/>
            <p:cNvSpPr/>
            <p:nvPr/>
          </p:nvSpPr>
          <p:spPr>
            <a:xfrm>
              <a:off x="2991240" y="4878360"/>
              <a:ext cx="371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USTOMIZE YOUR OWN NIKE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C60-B007-4770-A6D1-3A2B75456C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Message-Response Involvement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’s interest in processing marketing communications 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gilante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V = low involvement medium; print = high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rketers experiment with novel ways to increase consumers’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362320" y="5486400"/>
            <a:ext cx="3763800" cy="825480"/>
            <a:chOff x="2362320" y="5486400"/>
            <a:chExt cx="3763800" cy="825480"/>
          </a:xfrm>
        </p:grpSpPr>
        <p:pic>
          <p:nvPicPr>
            <p:cNvPr id="9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362320" y="5486400"/>
              <a:ext cx="95256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91" name=""/>
            <p:cNvSpPr/>
            <p:nvPr/>
          </p:nvSpPr>
          <p:spPr>
            <a:xfrm>
              <a:off x="3430800" y="5792760"/>
              <a:ext cx="26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ABISCOWORLD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FF2-1172-4658-BE5B-597101AB4D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 and Valu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e forces that drive us to buy/use products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sually 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related to wide-spread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emotional and create deep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ometimes not immediately recognizable to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1431-A1FF-4C0A-A6E9-7C9BB1A681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urchase Situation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ifferences that may occur when buying the same object for different context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risk is a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t as symbol of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FD14-A850-4AC1-A42B-AEF4C1F19E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Table 4-2: Scale to Measure Involvement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523880"/>
          <a:ext cx="8229600" cy="4713480"/>
        </p:xfrm>
        <a:graphic>
          <a:graphicData uri="http://schemas.openxmlformats.org/drawingml/2006/table">
            <a:tbl>
              <a:tblPr/>
              <a:tblGrid>
                <a:gridCol w="685800"/>
                <a:gridCol w="2057400"/>
                <a:gridCol w="3581280"/>
                <a:gridCol w="1905120"/>
              </a:tblGrid>
              <a:tr h="767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To Me (Object to Be Judged)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mpor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impor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o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nter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relev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rrelev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xci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exci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means no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means a l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appea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appea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scin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mund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worthl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valu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nvol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invol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1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not nee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nee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2053-7701-482A-926E-D04E49E8C2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mensions of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volvement profile component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interest in product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of bad 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ure value of product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value of product category (self-concept relev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A50A-594D-4A55-B593-7CA9AA90F2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Dimensions of Involvement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 class involvement may vary across cultur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volvement profile components as basis for market se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B0D9-CF0B-42A9-8C9F-4CAD2B4C9F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Strategies to Increase Involvement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Appeal to hedonistic need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Use novel stimuli in commercial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Use prominent stimuli in commercial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Include celebrity endorsers in commercial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Build consumer bonds via ongoing consumer relationship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419360" cy="400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DFF-68D5-442E-8CF9-F8A9DC230A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nsumer Valu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Value: a belief that some condition is preferable to its opposit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freedom is preferable to slavery; looking younger is preferable to looking 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s/services = help in attaining value-related goa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We seek others that share our values/belief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we tend to be exposed to information that supports our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73C7-892A-4FC1-AF05-460B3B57A8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re Valu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Every culture has its own set of value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ndividualism vs. collectiv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Value system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Enculturation vs. acculturation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ization agents: parents, friends,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as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63055"/>
                </a:solidFill>
                <a:latin typeface="Arial"/>
              </a:rPr>
              <a:t>Discussion: Core values evolve over time. What do you think are the 3–5 core values that best describe Canadians today?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860-0895-4FB1-8F30-ED7E8D4DC0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okeach Value Surve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l values (e.g., comfortable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al values (e.g., ambiti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researchers have not widely used this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ption microcultures within larger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4860-9571-4242-A3D8-55A47A8AB9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ist of Values (LOV)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ne consumer segments/endorse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by consumer behavi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those who endorse sense of belonging rea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der’s Dig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V Gu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rink and entertain more, and prefer group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EE3-22A8-496D-AE6F-07A37A0993D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eans-End Chain Mod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pecific product attributes are linked at levels of increasing abstraction to termin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means to attain valued en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= means to an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ddering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value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A3E5-F0A6-4598-93C1-7DF5F458D4B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Motivation Proces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otivation: the process that leads us to behave they way we do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creates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ion creates drive to reduce/eliminate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d end state = consumer’s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/services provide desired end state and reduce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6B63-5708-42E0-A906-37560DAC82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(Conc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yndicated Survey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changes in values via large-scale surveys (e.g., Yankelovi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nito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terialism vs. voluntary simplifie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od life”...“He Who Dies with the Most Toys, W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with highly material values tend to be less 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ning Ma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9AC2-CD2F-461E-8B51-1BB21B53B8A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ECCA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athered information used to develop an advertising strategy by identifying the following elements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ing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DE3-196A-4EA8-B1A8-EC26A9F8034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in the Aftermath of 9/11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ed for balance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/11 and consumer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edirecting focus from luxury goods to community/famil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 privacy vs. secur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460C-C8C2-4A0A-A999-4DE9372B8A7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How do you think consumers have changed as a result of 9/11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these long-term changes or will we start to revert back to our pre-2001 minds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378-38E7-438B-B9F5-FFBEACD073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Motivation Proces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ed = discrepancy between present state and ideal stat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pancy creates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: the larger the discrepancy, the more urgency f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476244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80D4-47B0-4F63-85F7-75AEB1E606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Strength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egree of willingness to expend energy to reach a goa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 vs. learne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ncy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52F-2137-4E69-AA08-33DAF86B96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Direct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ost goals can be reached by a number of routes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ers: products/services provide best chance to attain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eds vs. want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: particular form of consumption used to satisfy a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C547-58E4-43F6-B0AB-45DF5717F2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ypes of Need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iogen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sychogen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Utilitaria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edon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D46-C318-4157-A70B-130610E25E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Conflic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oal valenc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ly valued goal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ly valued goal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v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odorant and mouthw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ositive and negative motives often conflict with one another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25B1-2BED-4C70-B08F-71EDE4E3E4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Conflict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876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pproach-Approach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desirabl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pproach-Avoidanc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and negative aspects of desired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lt of desire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voidance-Avoidanc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ng a choice with two undesirabl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962160" cy="322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9A2-7136-4664-9330-657564F0C5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0:53:29Z</dcterms:created>
  <dc:creator>mkcool</dc:creator>
  <dc:description/>
  <dc:language>en-US</dc:language>
  <cp:lastModifiedBy>Pearson Canada</cp:lastModifiedBy>
  <dcterms:modified xsi:type="dcterms:W3CDTF">2007-05-16T17:39:29Z</dcterms:modified>
  <cp:revision>1001</cp:revision>
  <dc:subject/>
  <dc:title>Consumers Rule</dc:title>
</cp:coreProperties>
</file>